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344-7042-46D7-A8E6-DCCD55DF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50F-8E20-4E8C-B990-72F516D9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99F-7A62-49CB-9F67-089033D6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B7D-8331-488C-83DC-931E4F3C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BB4-6019-42B0-B3CD-E15062B3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319-F121-4B1D-A1E9-C549C78A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CAD-A6C0-412B-AC97-AE482537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F3C-42C1-43EA-8190-4468E4CC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163-5B8E-4A96-BDB7-723FFA1B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3EF-C1D6-447E-9A07-1B9090E6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C91-D8C0-48F1-BE08-0B37782F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88C-39CF-407A-AC35-7ED6B706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1031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0" name="Picture 103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1033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" name="Picture 1034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6DD9-B1A3-462B-BEE0-4ADCF4833BA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hapter 30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FALL: THE WESTERN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GLOBAL AGE (SINCE 198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Western Europe and the Search for Unity 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(cont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cques Chi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5 Muslim ri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ove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colas Sarko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uption in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lvio Berlusc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ano Pr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Unification of Europ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ropean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Europ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y on Europea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pea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etition on the world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itary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 of national 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2007, EU to 455 million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The United States: Move to the Center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769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rge H. W. 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lin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od of economic reviv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nd term impea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rge W. 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 in Ir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h tax c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ian Mulroney (b. 1939), elected in 19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b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né Léves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i Québéc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WCB3e_unm29"/>
          <p:cNvPicPr/>
          <p:nvPr/>
        </p:nvPicPr>
        <p:blipFill>
          <a:blip r:embed="rId1"/>
          <a:stretch/>
        </p:blipFill>
        <p:spPr>
          <a:xfrm>
            <a:off x="1447920" y="1066680"/>
            <a:ext cx="6705360" cy="5605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 rot="16200000">
            <a:off x="-1069920" y="3635640"/>
            <a:ext cx="5083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2003 Wadsworth, a division of Thomson Learning, Inc.  Thomson Learning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Quebec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End of the Cold War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khail Gorbach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 Trea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hrow of Communist reg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lf W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aq forces in Ku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World Order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An Age of Terroris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nich Olympic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rorist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 Army 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 Brigad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les Martel 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lestinian terro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n American flight 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Terrorist Attack on the United States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968120"/>
            <a:ext cx="77691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11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-Qa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ama bin 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.S.S. C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ghan and U.S. special forces ousted The Taliban in Afghanistan i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multiethnic government faced problems from renewed Taliban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War in Iraq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837720"/>
            <a:ext cx="7769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3, largely American-led forces invaded Ira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aqi army was quickly def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ied forces sought to restore stability to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ting forth plans to lay the foundations of a future democrati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ddam Hussein captured, tried and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2006, violence had increased dramatically and Ir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7, President Bush increased the number of U.S. tr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ops loss decreased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The West and Isla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raeli-Palestinian 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hah of I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yatollah Khome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.S. forces in the Middle East considered an affront to Islam by anti-Western Islamic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New Directions in Western Societ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447560"/>
            <a:ext cx="7769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formation in Women’s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rthrates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man in workforce on the 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men’s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lvement in Environmental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lam is growing in Europe and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Toward a New Western Ord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volutionary Era in the Soviet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khail Gorbache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 of the Soviet 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ris Yelt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wealth of Independe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Ru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tin 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ladimir Pu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Art and Music in the 1980s and 1990s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761760"/>
            <a:ext cx="7769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ual 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qu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s Serrano and Robert Mapplethor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Endowment for the 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unge, Rap and Hip 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wid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ular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t and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ll Vi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thew Bar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Toward a Global Civilizati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205884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greement on Tariffs and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Trade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Toward a Global Civilization </a:t>
            </a:r>
            <a:r>
              <a:rPr b="1" lang="en-US" sz="2800" spc="-1" strike="noStrike">
                <a:solidFill>
                  <a:srgbClr val="482400"/>
                </a:solidFill>
                <a:latin typeface="Times New Roman"/>
              </a:rPr>
              <a:t>(cont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587600"/>
            <a:ext cx="83818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vironmental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 w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gration and developed and developing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 M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nk globally, act locally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governmental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066320"/>
            <a:ext cx="7769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as the impact of Mikhail Gorbachev’s reforms on the Soviet Union? Was he its savior or its destro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ere the chief obstacles in the reunification of Germany? How were these obstacles res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has terrorism changed over the last two decades? What forces brought about these ch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ine the debate over global warming. Defend and refute each side of the deb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Weblink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600200"/>
            <a:ext cx="776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khail Gorbach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adimir Pu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stav Hus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rlin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bodan Milosev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olas Sarko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rge W. 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WCB3e_m29"/>
          <p:cNvPicPr/>
          <p:nvPr/>
        </p:nvPicPr>
        <p:blipFill>
          <a:blip r:embed="rId1"/>
          <a:stretch/>
        </p:blipFill>
        <p:spPr>
          <a:xfrm>
            <a:off x="1219320" y="1371600"/>
            <a:ext cx="7924680" cy="52689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6200000">
            <a:off x="-959760" y="379116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New Europ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82400"/>
                </a:solidFill>
                <a:latin typeface="Times New Roman"/>
              </a:rPr>
              <a:t>Eastern Europe: The Revolutions of 1989</a:t>
            </a:r>
            <a:br>
              <a:rPr sz="3000"/>
            </a:br>
            <a:r>
              <a:rPr b="1" lang="en-US" sz="3000" spc="-1" strike="noStrike">
                <a:solidFill>
                  <a:srgbClr val="482400"/>
                </a:solidFill>
                <a:latin typeface="Times New Roman"/>
              </a:rPr>
              <a:t>and the Collapse of the Communist Order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691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hWal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zechoslova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stav Husa´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clav H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colae Ceaus¸es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the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WCB3e_unm29"/>
          <p:cNvPicPr/>
          <p:nvPr/>
        </p:nvPicPr>
        <p:blipFill>
          <a:blip r:embed="rId1"/>
          <a:stretch/>
        </p:blipFill>
        <p:spPr>
          <a:xfrm>
            <a:off x="1066680" y="609480"/>
            <a:ext cx="5791320" cy="5769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 rot="16199400">
            <a:off x="-993240" y="4255920"/>
            <a:ext cx="3997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2003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adswor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a division of Thomson Learning, Inc.  Thomson Learning</a:t>
            </a:r>
            <a:r>
              <a:rPr b="0" lang="en-US" sz="600" spc="-1" strike="noStrike" baseline="-25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is a trademark used herein under licens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81680" y="380880"/>
            <a:ext cx="2362320" cy="59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hechny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Reunification of Germany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676160"/>
            <a:ext cx="776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ich Hon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ll must go!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t Germany free e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ch 18,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tical reun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ober 3,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Berlin Wall 1961 -1989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9" name="Picture 5" descr="berlin_wall"/>
          <p:cNvPicPr/>
          <p:nvPr/>
        </p:nvPicPr>
        <p:blipFill>
          <a:blip r:embed="rId1"/>
          <a:stretch/>
        </p:blipFill>
        <p:spPr>
          <a:xfrm>
            <a:off x="1752480" y="137160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Disintegration of Yugoslavi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venia, Croatia, Bosnia-Herzegovina, and Maced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bodan Milosev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 in Bos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nic cleansing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acre at Srebre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 in Koso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sovo Liberation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jislav Kostu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O tr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Western Europe and the Search for Unity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rmany Rest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mut Ko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istian Democr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si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hard Schro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-Thatcher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ur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Ma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rdon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3:26:42Z</dcterms:created>
  <dc:creator>Darlene L. Wise</dc:creator>
  <dc:description/>
  <dc:language>en-US</dc:language>
  <cp:lastModifiedBy>Local User</cp:lastModifiedBy>
  <dcterms:modified xsi:type="dcterms:W3CDTF">2013-04-23T11:06:23Z</dcterms:modified>
  <cp:revision>186</cp:revision>
  <dc:subject/>
  <dc:title>Chapter 29</dc:title>
</cp:coreProperties>
</file>